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156-7F1F-4D02-B099-56EBAB75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593-5A21-4208-9826-E5A16A40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9DB-BAD3-4A75-B02A-3C947EF3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8D26-6164-430A-ADAF-69A68E7B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7185-3230-4751-ABD5-2093A68C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20EF-D581-479A-B560-97D4C343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F8C5-A547-4FAC-BFB5-63B8753D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E88A-6759-4D22-A6BB-22C37994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7797-C088-446F-9007-A44BCC96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65A1-90FC-48F2-89F0-EA7C197D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B660-37B4-4287-8AD0-2FF22704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CAA-1BE8-496D-A208-C59EFB3C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64DC-7829-4592-88E6-924DEB4D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EE4D-2E53-4FB0-B7AF-F15624CB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7FDB-C7ED-43F8-BE14-F5A82EDA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E006-B766-46E3-8686-460812BA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E921-897D-492E-8E7A-B7F84B06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92A2E-A7CC-4E7C-8393-803D50FA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A3C6B-F6D6-49CC-96BF-FBF2A3B7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4B0E6-D922-4E89-A165-69323A5C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55767-3D60-4823-B20A-B26F51A0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4642E-5253-4313-BA16-16C3F063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C45-5919-4C17-93B5-17E8912D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4CB17-3C23-41C3-9662-91DBEA66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061E2-7B07-408B-8310-10BB52DB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C68CA-509D-4813-AB57-9ED5F7FA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6BD2E-109B-4911-A102-8BA9BF9B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867D6-532A-41A6-ADD1-544CA0B7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338D3-8C49-487E-BAD8-FC28A53F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9801B-3DCC-49AD-B9C4-74E742C4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6F421-72C6-4E51-B5E3-2AB4BC15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CFBDA-15C3-4457-97E2-FC1AD142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412F7-D332-4E3B-81F6-1CD0D382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33A-4746-4AC4-8A32-708B2949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4D152-C375-4990-9EBB-22F7C3FE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2A50C-00CF-45B5-BE2E-59B658E8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88DD5-E637-40AA-AC96-1E66F8E4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5EB9E-7150-45C9-8F24-E041B3B1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094ED-104A-4F82-AEDD-4002F6E2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F230E-E133-4171-8295-8BF83A77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A9419-17BA-4FFD-B121-7B824FA9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98508-BB13-41AD-B3A5-77F74CB6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AD30A-97E0-4739-930C-9D5C4773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6B9226-7399-4C9C-9DAE-79DBF95A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6FF0-6CA2-4406-AEBF-46BAAFF1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99F56B-614F-4DCD-B443-DCE6963A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FB7FE3-132A-422B-8BC0-98D19222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1687E8-D82E-4BF5-9576-AA9AC096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A0D07C-2E62-4C97-B636-73E3248B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9DF38-CB1E-4D83-9DCB-D3FCC124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4D3E37-98F1-451A-9B5A-7776368F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45CD40-51B5-4D7B-90F2-070BD1D2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69495A-9BE6-4036-AC0B-D705D040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C6473F-71FF-4CE7-B01A-9FA93BB9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1B711C-37E7-4317-A357-08D8E32D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0459-F6E7-4D16-86B8-3EBB17D4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9E7ED-8C27-4C84-8765-11C42EC2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C66837-B279-4F0C-AF5E-291D21E2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F271D8-961C-4CC4-9307-D5507AFA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4DAF2D-CA42-4958-B258-1D57B14F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06953-F330-49F9-8C8A-9F03924A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54C39E-350A-4E8F-B658-46DD3E61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A13C1D-05B8-4546-B3D4-90C1D9C1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31877F-1011-49C6-9872-47B55F7A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857DA6-4652-4F19-A603-B8AB0868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D310D0-985C-4B00-8B3E-4D1A8B51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CCB-774B-48DF-8327-389877D7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6E21E1-3921-4B54-8D33-6D16BD4A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D3FF3D-01F3-4477-82A6-98692720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13B369-9D2E-4894-9F79-9671A77D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00D293-A52D-424A-9D97-0C064E58F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5625BA-EA30-4186-9CF8-4B275886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B82876-986F-4C35-9630-AAC2340B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6B12F0-54AB-4609-8909-54FBCA52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FA50E5-D5BA-47C3-A66E-1673FB43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E7641A-855F-4CD8-B4C9-055F604C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E6056F-BDD4-4B20-9DD1-34032A37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A881-730E-44E6-AFAD-BB60B4CF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A3FB5F-59B9-4270-86A2-063CE751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1C565D-DDAD-4913-A580-C466BF66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D4AF01-4606-490F-928E-F7212C85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94B91A-2FDC-4FE9-99B2-8BD5C952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983431-76D3-409D-9BF8-F3E363D5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92EA-D7BD-4B0E-9BB7-2EF0F627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386B-EE90-4759-922E-FD474CD2049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7F11-3E78-4DC9-AB41-570FB4212E1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CF8E-88B9-466E-8211-32BB7BC30C5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d8afb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e6ced4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e6ced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3e8eb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d8afb9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3e8eb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d8afb9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d8afb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e7e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4e7e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2CF3-E699-44E6-8E96-B6FB93A7DA4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F3C8-A240-452D-8396-F33495A9A9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4C20-3DD5-4032-B00D-59D1D05081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d8af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13f9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a2355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d8afb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b8d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5AD7-6F90-4D7E-A743-313BA80C78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13f9a"/>
                </a:solidFill>
                <a:latin typeface="Century Schoolbook"/>
              </a:rPr>
              <a:t>MONDAY</a:t>
            </a:r>
            <a:endParaRPr b="0" lang="en-US" sz="48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2949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many fewer students liked potato salad than fried potatoe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13f9a"/>
                </a:solidFill>
                <a:latin typeface="Century Schoolbook"/>
              </a:rPr>
              <a:t>TUESDAY</a:t>
            </a:r>
            <a:endParaRPr b="0" lang="en-US" sz="48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2193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is the total number of students who chose mashed potatoes or fried potatoes as their favorite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13f9a"/>
                </a:solidFill>
                <a:latin typeface="Century Schoolbook"/>
              </a:rPr>
              <a:t>WEDNESDAY</a:t>
            </a:r>
            <a:endParaRPr b="0" lang="en-US" sz="48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2189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many students did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hoose baked potatoes as their favori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13f9a"/>
                </a:solidFill>
                <a:latin typeface="Century Schoolbook"/>
              </a:rPr>
              <a:t>THURSDAY</a:t>
            </a:r>
            <a:endParaRPr b="0" lang="en-US" sz="48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295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many students attend Hillside Elementary School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13f9a"/>
                </a:solidFill>
                <a:latin typeface="Century Schoolbook"/>
              </a:rPr>
              <a:t>FRIDAY</a:t>
            </a:r>
            <a:endParaRPr b="0" lang="en-US" sz="4800" spc="-1" strike="noStrike">
              <a:solidFill>
                <a:srgbClr val="b13f9a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at is the difference in the number of students who chose mashed potatoes and those that chose baked potatoe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83d68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22:55:35Z</dcterms:created>
  <dc:creator>127partidak</dc:creator>
  <dc:description/>
  <dc:language>en-US</dc:language>
  <cp:lastModifiedBy>127partidak</cp:lastModifiedBy>
  <dcterms:modified xsi:type="dcterms:W3CDTF">2012-01-27T23:07:47Z</dcterms:modified>
  <cp:revision>2</cp:revision>
  <dc:subject/>
  <dc:title>Monday</dc:title>
</cp:coreProperties>
</file>